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92840" cy="992196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21960"/>
              <a:gd name="textAreaBottom" fmla="*/ 9921600 h 9921960"/>
            </a:gdLst>
            <a:ahLst/>
            <a:rect l="textAreaLeft" t="textAreaTop" r="textAreaRight" b="textAreaBottom"/>
            <a:pathLst>
              <a:path w="21600" h="31550">
                <a:moveTo>
                  <a:pt x="5" y="0"/>
                </a:moveTo>
                <a:arcTo wR="5" hR="5" stAng="16200000" swAng="-5400000"/>
                <a:lnTo>
                  <a:pt x="0" y="31545"/>
                </a:lnTo>
                <a:arcTo wR="5" hR="5" stAng="10800000" swAng="-5400000"/>
                <a:lnTo>
                  <a:pt x="21595" y="315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92840" cy="992196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21960"/>
              <a:gd name="textAreaBottom" fmla="*/ 9921600 h 9921960"/>
            </a:gdLst>
            <a:ahLst/>
            <a:rect l="textAreaLeft" t="textAreaTop" r="textAreaRight" b="textAreaBottom"/>
            <a:pathLst>
              <a:path w="21600" h="31550">
                <a:moveTo>
                  <a:pt x="5" y="0"/>
                </a:moveTo>
                <a:arcTo wR="5" hR="5" stAng="16200000" swAng="-5400000"/>
                <a:lnTo>
                  <a:pt x="0" y="31545"/>
                </a:lnTo>
                <a:arcTo wR="5" hR="5" stAng="10800000" swAng="-5400000"/>
                <a:lnTo>
                  <a:pt x="21595" y="315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7680" y="-360"/>
            <a:ext cx="2938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648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42336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7680" y="9423360"/>
            <a:ext cx="293868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B3A3C-DD54-4767-84B9-4DC5669AAC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7E0-D750-48CC-90D0-D4EC04F1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12FB-0399-41AE-8104-7B2AD795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E9AB-1437-4BD1-AB56-57C941DD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8C8C-4C81-41B1-97C9-AB4D48C4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39D-C0E1-4968-A633-0EDDD48A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52EC-A01C-4774-B181-018CF56D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1957-1F8E-4499-B7CE-24B5B73F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6E0F-EFC5-4EB6-BD58-B885C506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8B9-D758-4A39-AD90-119EFB20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14FC-D5AD-4091-AD2D-376E43D4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216-762C-4C19-B384-034358D0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80D-D71F-4E1D-BC56-72AA978F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4CD5C-7DE5-4513-B911-64B70ACA6D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804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mic Sans MS"/>
              </a:rPr>
              <a:t>Classificazione delle emozioni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400"/>
            </a:b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(Plutchik 198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40720" cy="55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Amore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GIOIA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ACCET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PA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             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ASPETT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3300"/>
                </a:solidFill>
                <a:latin typeface="Comic Sans MS"/>
              </a:rPr>
              <a:t>     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COLLERA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SOR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SCHIFO      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TRISTEZ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Disprezzo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Rimo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1219320"/>
            <a:ext cx="4800600" cy="449568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219320"/>
            <a:ext cx="1440" cy="44956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3429000"/>
            <a:ext cx="4814640" cy="14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819520" y="1825560"/>
            <a:ext cx="3504960" cy="32068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1905120"/>
            <a:ext cx="3581280" cy="3124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800" spc="-1" strike="noStrike">
                <a:solidFill>
                  <a:srgbClr val="000099"/>
                </a:solidFill>
                <a:latin typeface="Tahoma"/>
              </a:rPr>
              <a:t>Dott.ssa Margherita Cesta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7080" y="1916280"/>
            <a:ext cx="2050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Imbarazzo vs deci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Vergogna vs orgog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Gelosia vs fiduci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generosit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6000" y="5661000"/>
            <a:ext cx="205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Colpa vs soddisf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4221000"/>
            <a:ext cx="2051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Invidia vs altru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ammi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Sdegno vs approv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852640"/>
            <a:ext cx="1582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3213000"/>
            <a:ext cx="183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Aggressiv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8720" y="3284640"/>
            <a:ext cx="183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Spav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557360"/>
            <a:ext cx="1834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Ottim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6720" y="1484280"/>
            <a:ext cx="183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Sottomiss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4941720"/>
            <a:ext cx="183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Delus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cc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69560"/>
            <a:ext cx="82296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Esem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424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Riformu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006600"/>
                </a:solidFill>
                <a:latin typeface="Tahoma"/>
              </a:rPr>
              <a:t>Se ho ben capito, la scuola non ti da’ quello che cercavi, cose nuove ed interess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Ver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006600"/>
                </a:solidFill>
                <a:latin typeface="Tahoma"/>
              </a:rPr>
              <a:t>Sento che sei deluso della scuola poiché non ti offre quello che ti aspettavi: cose nuove ed interess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Do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Quale</a:t>
            </a: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6600"/>
                </a:solidFill>
                <a:latin typeface="Tahoma"/>
              </a:rPr>
              <a:t> tipo di cose ti aspettavi di impara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620640"/>
            <a:ext cx="835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620640"/>
            <a:ext cx="8569080" cy="187164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Studente delle scuole professionali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Non so….E’ solo che la scuola non mi da quello che mi sarei aspett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Pensavo che venendo qui le cose sarebbero state diverse, che le lezio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sarebbero  state interessanti, che avrei avuto mondo di impar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un sacco di cose nuove. Invece, a quanto pare, questi corsi non mi danno nu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Forse è meglio che lasci la scuola 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836640"/>
            <a:ext cx="8064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2708280"/>
            <a:ext cx="4105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dur="indefinite" fill="hold">
                      <p:stCondLst>
                        <p:cond delay="indefinite"/>
                      </p:stCondLst>
                      <p:childTnLst>
                        <p:par>
                          <p:cTn id="1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dur="indefinite" fill="hold">
                      <p:stCondLst>
                        <p:cond delay="indefinite"/>
                      </p:stCondLst>
                      <p:childTnLst>
                        <p:par>
                          <p:cTn id="1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dur="indefinite" fill="hold">
                      <p:stCondLst>
                        <p:cond delay="indefinite"/>
                      </p:stCondLst>
                      <p:childTnLst>
                        <p:par>
                          <p:cTn id="1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dur="indefinite" fill="hold">
                      <p:stCondLst>
                        <p:cond delay="indefinite"/>
                      </p:stCondLst>
                      <p:childTnLst>
                        <p:par>
                          <p:cTn id="1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dur="indefinite" fill="hold">
                      <p:stCondLst>
                        <p:cond delay="indefinite"/>
                      </p:stCondLst>
                      <p:childTnLst>
                        <p:par>
                          <p:cTn id="1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dur="indefinite" fill="hold">
                      <p:stCondLst>
                        <p:cond delay="indefinite"/>
                      </p:stCondLst>
                      <p:childTnLst>
                        <p:par>
                          <p:cTn id="1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dur="indefinite" fill="hold">
                      <p:stCondLst>
                        <p:cond delay="indefinite"/>
                      </p:stCondLst>
                      <p:childTnLst>
                        <p:par>
                          <p:cTn id="1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Sched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410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66ff"/>
                </a:solidFill>
                <a:latin typeface="Tahoma"/>
              </a:rPr>
              <a:t>Che cosa l’altro ha det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66ff"/>
                </a:solidFill>
                <a:latin typeface="Tahoma"/>
              </a:rPr>
              <a:t>Quali sono i contenuti essenziali del suo messagg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ahoma"/>
              </a:rPr>
              <a:t>Riformul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2707920"/>
            <a:ext cx="4100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66ff"/>
                </a:solidFill>
                <a:latin typeface="Tahoma"/>
              </a:rPr>
              <a:t>Qual è lo scopo della mia do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66ff"/>
                </a:solidFill>
                <a:latin typeface="Tahoma"/>
              </a:rPr>
              <a:t>E’ uti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66ff"/>
                </a:solidFill>
                <a:latin typeface="Tahoma"/>
              </a:rPr>
              <a:t>Come posso formulare la mia domanda perché risulti effic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ahoma"/>
              </a:rPr>
              <a:t>Dom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765000"/>
            <a:ext cx="8352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Giovane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Stavo pensando di iscrivermi alla scuola per segretari d’azien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Secondo i miei amici è una cosa da femmine e mi deridono. Ma io ho bisog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di trovare lavoro presto e le offerte in giro sono scarse. Non so cosa fare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0755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Sched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4033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66ff"/>
                </a:solidFill>
                <a:latin typeface="Tahoma"/>
              </a:rPr>
              <a:t>Quali sono le parole che l’altro usa per esprimere i suoi sentimen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66ff"/>
                </a:solidFill>
                <a:latin typeface="Tahoma"/>
              </a:rPr>
              <a:t>Quali sono i sentimenti esplicati nella CNV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66ff"/>
                </a:solidFill>
                <a:latin typeface="Tahoma"/>
              </a:rPr>
              <a:t>Qual è l’indice referenziale delle emozioni dell’alt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Ver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2276640"/>
            <a:ext cx="4100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66ff"/>
                </a:solidFill>
                <a:latin typeface="Tahoma"/>
              </a:rPr>
              <a:t>Qual è lo scopo della mia doman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66ff"/>
                </a:solidFill>
                <a:latin typeface="Tahoma"/>
              </a:rPr>
              <a:t>E’ uti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66ff"/>
                </a:solidFill>
                <a:latin typeface="Tahoma"/>
              </a:rPr>
              <a:t>Come posso formulare la mia domanda perché risulti effica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Do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620640"/>
            <a:ext cx="8351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Giovane adulto</a:t>
            </a:r>
            <a:r>
              <a:rPr b="0" lang="en-GB" sz="1600" spc="-1" strike="noStrike">
                <a:solidFill>
                  <a:srgbClr val="333399"/>
                </a:solidFill>
                <a:latin typeface="Tahom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Faccio molta fatica a decidere che tipo di lavoro fare. Voglio guadagnare be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ma desidero anche un lavoro che mi permetta di aiutare gli altri. Tuttavia l’insegna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o l’assistenza sociale non fanno per me, richiedono troppa abnegazione</a:t>
            </a:r>
            <a:r>
              <a:rPr b="0" lang="en-GB" sz="1600" spc="-1" strike="noStrike">
                <a:solidFill>
                  <a:srgbClr val="333399"/>
                </a:solidFill>
                <a:latin typeface="Tahoma"/>
              </a:rPr>
              <a:t>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ahoma"/>
              </a:rPr>
              <a:t>(tono della voce basso, sguardo bass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61640"/>
            <a:ext cx="82296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 PAROLE PER I SENTIMENTI </a:t>
            </a:r>
            <a:r>
              <a:rPr b="0" lang="en-GB" sz="1200" spc="-1" strike="noStrike">
                <a:solidFill>
                  <a:srgbClr val="ff3300"/>
                </a:solidFill>
                <a:latin typeface="Comic Sans MS"/>
              </a:rPr>
              <a:t>(tratto da Colasanti, Mastromarino, 19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61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SENTIMENTI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INTENS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Bassa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Media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A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GIOIA</a:t>
            </a: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mpiaciu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gioio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elettrizz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pensier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nten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entusia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oddisfat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llegr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estas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ranquillo, sereno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ottimist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ecci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TRISTEZZA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giù di ton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rist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ispe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coraggi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ol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epres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agliato fuori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felic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istru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fer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esol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emoralizz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confitto, fin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PAURA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reoccup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mpaur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errific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quieto, nervo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pavent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ietrific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 disagio, esitant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e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reso dal pa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urbato, intimid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 ansi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aralizz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llarm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git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avid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mbarazz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vulnera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RABBIA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fastid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rrabbi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rato,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fur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ntrari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tizz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vendic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cos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rrit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ostile, in col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gitato, inquie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offeso, risent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furioso, violen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urbato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nervos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furibo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38720" y="8893080"/>
            <a:ext cx="25192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99"/>
                </a:solidFill>
                <a:latin typeface="Tahoma"/>
              </a:rPr>
              <a:t>Dott.ssa Margherita Cesta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800" spc="-1" strike="noStrike">
                <a:solidFill>
                  <a:srgbClr val="000099"/>
                </a:solidFill>
                <a:latin typeface="Tahoma"/>
              </a:rPr>
              <a:t>Dott.ssa Margherita Cesta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0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 fill="hold"/>
                                        <p:tgtEl>
                                          <p:spTgt spid="6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 fill="hold"/>
                                        <p:tgtEl>
                                          <p:spTgt spid="6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 fill="hold"/>
                                        <p:tgtEl>
                                          <p:spTgt spid="6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SENTIMENTI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INTENS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      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Bassa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Media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                       A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COLPA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rimorso, rimpian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lpevol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mperdona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mbarazz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mortific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umiliato, avvil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responsabile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ridicol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tup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timid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vergogno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ngust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COMPETENZA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fermo, deci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mpetente, fort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o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FORZ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bil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icuro di sé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utorev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udace,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raggio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fl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risoluto,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efficace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etermin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realizzato,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asser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CONFUSIONE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erples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nfu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ormen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INCERTEZZ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isorganizz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cer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concer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sicuro, titubant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isorient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convo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 conflit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ubbio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DEBOLEZZ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rassegn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adeguato, fragil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utile, impo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INADEGUATEZZ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oco disinvol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capac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esausto, coda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emoralizz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vulnerabil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buono a nu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cer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enza risors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feri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sicur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competent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signific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72360" y="6678720"/>
            <a:ext cx="2592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8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dur="indefinite" fill="hold">
                      <p:stCondLst>
                        <p:cond delay="indefinite"/>
                      </p:stCondLst>
                      <p:childTnLst>
                        <p:par>
                          <p:cTn id="3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dur="indefinite" fill="hold">
                      <p:stCondLst>
                        <p:cond delay="indefinite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 fill="hold"/>
                                        <p:tgtEl>
                                          <p:spTgt spid="7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 fill="hold"/>
                                        <p:tgtEl>
                                          <p:spTgt spid="7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 fill="hold"/>
                                        <p:tgtEl>
                                          <p:spTgt spid="7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CONTENUTO</a:t>
            </a:r>
            <a:r>
              <a:rPr b="1" lang="en-GB" sz="1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GB" sz="1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GB" sz="1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GB" sz="1800" spc="-1" strike="noStrike">
                <a:solidFill>
                  <a:srgbClr val="cc33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Che cosa sta dicendo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Come lo sta dicendo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La confusione mi distur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Che cosa dice si sé?”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Sono a disag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Ripristini l’ord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In che modo l’altro percepis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       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me e la nostra relazione?”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Lei deve fare qualc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69948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Comic Sans MS"/>
              </a:rPr>
              <a:t>Le 4 dimensioni di un mess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2781360"/>
            <a:ext cx="4032360" cy="1224000"/>
          </a:xfrm>
          <a:prstGeom prst="rect">
            <a:avLst/>
          </a:prstGeom>
          <a:solidFill>
            <a:srgbClr val="bbe0e3">
              <a:alpha val="52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Faccio fatica a seg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con questa confusio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Può far fare un po’ di silenz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708280"/>
            <a:ext cx="216072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Comic Sans MS"/>
              </a:rPr>
              <a:t>      </a:t>
            </a: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AUTO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PRESENT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20000" y="2708280"/>
            <a:ext cx="151272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APP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4076640"/>
            <a:ext cx="226872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RELAZION</a:t>
            </a: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43640" y="3357720"/>
            <a:ext cx="270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Che cosa vu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raggiungere l’altro 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la sua  comunicazione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6678720"/>
            <a:ext cx="2592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dur="indefinite" fill="hold">
                      <p:stCondLst>
                        <p:cond delay="indefinite"/>
                      </p:stCondLst>
                      <p:childTnLst>
                        <p:par>
                          <p:cTn id="3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dur="indefinite" fill="hold">
                      <p:stCondLst>
                        <p:cond delay="indefinite"/>
                      </p:stCondLst>
                      <p:childTnLst>
                        <p:par>
                          <p:cTn id="4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dur="indefinite" fill="hold">
                      <p:stCondLst>
                        <p:cond delay="indefinite"/>
                      </p:stCondLst>
                      <p:childTnLst>
                        <p:par>
                          <p:cTn id="4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dur="indefinite" fill="hold">
                      <p:stCondLst>
                        <p:cond delay="indefinite"/>
                      </p:stCondLst>
                      <p:childTnLst>
                        <p:par>
                          <p:cTn id="4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dur="indefinite" fill="hold">
                      <p:stCondLst>
                        <p:cond delay="indefinite"/>
                      </p:stCondLst>
                      <p:childTnLst>
                        <p:par>
                          <p:cTn id="4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dur="indefinite" fill="hold">
                      <p:stCondLst>
                        <p:cond delay="indefinite"/>
                      </p:stCondLst>
                      <p:childTnLst>
                        <p:par>
                          <p:cTn id="4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dur="indefinite" fill="hold">
                      <p:stCondLst>
                        <p:cond delay="indefinite"/>
                      </p:stCondLst>
                      <p:childTnLst>
                        <p:par>
                          <p:cTn id="4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2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dur="indefinite" fill="hold">
                      <p:stCondLst>
                        <p:cond delay="indefinite"/>
                      </p:stCondLst>
                      <p:childTnLst>
                        <p:par>
                          <p:cTn id="4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dur="indefinite" fill="hold">
                      <p:stCondLst>
                        <p:cond delay="indefinite"/>
                      </p:stCondLst>
                      <p:childTnLst>
                        <p:par>
                          <p:cTn id="4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dur="indefinite" fill="hold">
                      <p:stCondLst>
                        <p:cond delay="indefinite"/>
                      </p:stCondLst>
                      <p:childTnLst>
                        <p:par>
                          <p:cTn id="4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5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dur="indefinite" fill="hold">
                      <p:stCondLst>
                        <p:cond delay="indefinite"/>
                      </p:stCondLst>
                      <p:childTnLst>
                        <p:par>
                          <p:cTn id="4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 fill="hold"/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dur="indefinite" fill="hold">
                      <p:stCondLst>
                        <p:cond delay="indefinite"/>
                      </p:stCondLst>
                      <p:childTnLst>
                        <p:par>
                          <p:cTn id="4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dur="indefinite" fill="hold">
                      <p:stCondLst>
                        <p:cond delay="indefinite"/>
                      </p:stCondLst>
                      <p:childTnLst>
                        <p:par>
                          <p:cTn id="5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5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dur="indefinite" fill="hold">
                      <p:stCondLst>
                        <p:cond delay="indefinite"/>
                      </p:stCondLst>
                      <p:childTnLst>
                        <p:par>
                          <p:cTn id="5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dur="indefinite" fill="hold">
                      <p:stCondLst>
                        <p:cond delay="indefinite"/>
                      </p:stCondLst>
                      <p:childTnLst>
                        <p:par>
                          <p:cTn id="5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바탕"/>
              </a:rPr>
              <a:t>APPROCCIO CENTRATO</a:t>
            </a:r>
            <a:br>
              <a:rPr sz="2000"/>
            </a:br>
            <a:r>
              <a:rPr b="1" lang="en-GB" sz="2000" spc="-1" strike="noStrike">
                <a:solidFill>
                  <a:srgbClr val="cc3300"/>
                </a:solidFill>
                <a:latin typeface="바탕"/>
              </a:rPr>
              <a:t>SULL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ENDENZA ATTUALIZZANT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RO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Nell’uomo c’è una tend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naturale verso il completo autosvilupp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1400"/>
            </a:b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PSICOLOG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UMANISTIC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REL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br>
              <a:rPr sz="1400"/>
            </a:b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en-GB" sz="1400" spc="-1" strike="noStrike">
                <a:solidFill>
                  <a:srgbClr val="cc3300"/>
                </a:solidFill>
                <a:latin typeface="Tahoma"/>
              </a:rPr>
              <a:t>ASCO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cc3300"/>
                </a:solidFill>
                <a:latin typeface="Tahoma"/>
              </a:rPr>
              <a:t>      </a:t>
            </a:r>
            <a:r>
              <a:rPr b="1" lang="en-GB" sz="1400" spc="-1" strike="noStrike">
                <a:solidFill>
                  <a:srgbClr val="cc3300"/>
                </a:solidFill>
                <a:latin typeface="Tahoma"/>
              </a:rPr>
              <a:t>ATTIVO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Clim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di 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atteggia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psicologici agevolanti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      “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PERSONA AGEVOLANT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Il terapeuta come “levatrice del cambiamento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e non come colui che lo gener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L’autorità (il potere) decisiva è posta nelle mani del client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1916280"/>
            <a:ext cx="1440" cy="6476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3141720"/>
            <a:ext cx="2160720" cy="43164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284720" y="3138480"/>
            <a:ext cx="2374920" cy="50976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2276640"/>
            <a:ext cx="1440" cy="79200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08360" y="3933720"/>
            <a:ext cx="1800" cy="57492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8000" y="1773360"/>
            <a:ext cx="3527640" cy="144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3357720"/>
            <a:ext cx="1440" cy="43308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00720" y="6678720"/>
            <a:ext cx="2592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dur="indefinite" fill="hold">
                      <p:stCondLst>
                        <p:cond delay="indefinite"/>
                      </p:stCondLst>
                      <p:childTnLst>
                        <p:par>
                          <p:cTn id="5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dur="indefinite" fill="hold">
                      <p:stCondLst>
                        <p:cond delay="indefinite"/>
                      </p:stCondLst>
                      <p:childTnLst>
                        <p:par>
                          <p:cTn id="5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dur="indefinite" fill="hold">
                      <p:stCondLst>
                        <p:cond delay="indefinite"/>
                      </p:stCondLst>
                      <p:childTnLst>
                        <p:par>
                          <p:cTn id="5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dur="indefinite" fill="hold">
                      <p:stCondLst>
                        <p:cond delay="indefinite"/>
                      </p:stCondLst>
                      <p:childTnLst>
                        <p:par>
                          <p:cTn id="5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dur="indefinite" fill="hold">
                      <p:stCondLst>
                        <p:cond delay="indefinite"/>
                      </p:stCondLst>
                      <p:childTnLst>
                        <p:par>
                          <p:cTn id="6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dur="indefinite" fill="hold">
                      <p:stCondLst>
                        <p:cond delay="indefinite"/>
                      </p:stCondLst>
                      <p:childTnLst>
                        <p:par>
                          <p:cTn id="6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8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8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67280" y="188640"/>
            <a:ext cx="4176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capacità</a:t>
            </a:r>
            <a:r>
              <a:rPr b="0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 ed </a:t>
            </a:r>
            <a:r>
              <a:rPr b="1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intenzionalità</a:t>
            </a:r>
            <a:r>
              <a:rPr b="0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di </a:t>
            </a:r>
            <a:r>
              <a:rPr b="1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sperimentare empaticamente</a:t>
            </a:r>
            <a:r>
              <a:rPr b="0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 l’altro </a:t>
            </a:r>
            <a:r>
              <a:rPr b="1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rispecchiandone i viss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396108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AUTENTICITA’ –  CONGRUENZA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ACCETTAZIONE INCONDIZIONATA  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della persona dell’altro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EMPATIA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 =   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capacità di “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vedere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” il mo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                       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e di “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sentirlo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” così come 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                      “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vede” e lo “sente” l’altro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capacità di 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DE - CENTRAMENTO 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    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(“sensibilità eterocentrica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SOSPENSIONE” DEL GIUDIZ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97000"/>
            <a:ext cx="2808360" cy="792000"/>
          </a:xfrm>
          <a:prstGeom prst="ellipse">
            <a:avLst/>
          </a:prstGeom>
          <a:solidFill>
            <a:srgbClr val="ffcc00">
              <a:alpha val="49000"/>
            </a:srgbClr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  <a:ea typeface="바탕"/>
              </a:rPr>
              <a:t>ATTEGGIA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ahoma"/>
                <a:ea typeface="바탕"/>
              </a:rPr>
              <a:t>(modalità d’ess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1268280"/>
            <a:ext cx="2519280" cy="648000"/>
          </a:xfrm>
          <a:prstGeom prst="ellipse">
            <a:avLst/>
          </a:prstGeom>
          <a:solidFill>
            <a:srgbClr val="ffcc00">
              <a:alpha val="52000"/>
            </a:srgbClr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Tahoma"/>
              </a:rPr>
              <a:t>COMPORTA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Tahoma"/>
              </a:rPr>
              <a:t>EMPA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4005360"/>
            <a:ext cx="4465440" cy="2592360"/>
          </a:xfrm>
          <a:prstGeom prst="horizontalScroll">
            <a:avLst>
              <a:gd name="adj" fmla="val 9125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1857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66"/>
                </a:solidFill>
                <a:latin typeface="Tahoma"/>
              </a:rPr>
              <a:t>                 </a:t>
            </a:r>
            <a:r>
              <a:rPr b="0" i="1" lang="en-GB" sz="1600" spc="-1" strike="noStrike">
                <a:solidFill>
                  <a:srgbClr val="000066"/>
                </a:solidFill>
                <a:latin typeface="Tahoma"/>
              </a:rPr>
              <a:t>…</a:t>
            </a:r>
            <a:r>
              <a:rPr b="0" i="1" lang="en-GB" sz="1600" spc="-1" strike="noStrike">
                <a:solidFill>
                  <a:srgbClr val="000066"/>
                </a:solidFill>
                <a:latin typeface="Tahoma"/>
              </a:rPr>
              <a:t>. consente d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rendersi </a:t>
            </a:r>
            <a:r>
              <a:rPr b="1" lang="en-GB" sz="1600" spc="-1" strike="noStrike">
                <a:solidFill>
                  <a:srgbClr val="000066"/>
                </a:solidFill>
                <a:latin typeface="Tahoma"/>
              </a:rPr>
              <a:t>pres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rispondere al bisogno di </a:t>
            </a:r>
            <a:r>
              <a:rPr b="1" lang="en-GB" sz="1600" spc="-1" strike="noStrike">
                <a:solidFill>
                  <a:srgbClr val="000066"/>
                </a:solidFill>
                <a:latin typeface="Tahoma"/>
              </a:rPr>
              <a:t>confe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favorire l’</a:t>
            </a:r>
            <a:r>
              <a:rPr b="1" lang="en-GB" sz="1600" spc="-1" strike="noStrike">
                <a:solidFill>
                  <a:srgbClr val="000066"/>
                </a:solidFill>
                <a:latin typeface="Tahoma"/>
              </a:rPr>
              <a:t>auto-esplorazione </a:t>
            </a: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1" lang="en-GB" sz="1600" spc="-1" strike="noStrike">
                <a:solidFill>
                  <a:srgbClr val="000066"/>
                </a:solidFill>
                <a:latin typeface="Tahoma"/>
              </a:rPr>
              <a:t>scoperta autonoma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delle possibi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GB" sz="1600" spc="-1" strike="noStrike">
                <a:solidFill>
                  <a:srgbClr val="000066"/>
                </a:solidFill>
                <a:latin typeface="Tahoma"/>
              </a:rPr>
              <a:t>soluzioni</a:t>
            </a: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 al proprio prob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100000"/>
              </a:lnSpc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0720" y="6678720"/>
            <a:ext cx="2592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6360" y="2421000"/>
            <a:ext cx="208908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TECNICHE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INCORAGGI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3429000"/>
            <a:ext cx="2376720" cy="72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TECNICHE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RISPECCHI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2421000"/>
            <a:ext cx="1834920" cy="72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ARTE”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DOMAND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48360" y="1916280"/>
            <a:ext cx="1800" cy="1584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80360" y="1916280"/>
            <a:ext cx="57636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792400" y="1916280"/>
            <a:ext cx="65412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68360" y="189000"/>
            <a:ext cx="302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바탕"/>
              </a:rPr>
              <a:t>Ascolto at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480760" y="692280"/>
            <a:ext cx="1373400" cy="504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95640" y="692280"/>
            <a:ext cx="1656000" cy="649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3860640"/>
            <a:ext cx="151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3500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Tahoma"/>
              </a:rPr>
              <a:t>Risp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3500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Tahoma"/>
              </a:rPr>
              <a:t>Fidu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dur="indefinite" fill="hold">
                      <p:stCondLst>
                        <p:cond delay="indefinite"/>
                      </p:stCondLst>
                      <p:childTnLst>
                        <p:par>
                          <p:cTn id="6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dur="indefinite" fill="hold">
                      <p:stCondLst>
                        <p:cond delay="indefinite"/>
                      </p:stCondLst>
                      <p:childTnLst>
                        <p:par>
                          <p:cTn id="6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5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dur="indefinite" fill="hold">
                      <p:stCondLst>
                        <p:cond delay="indefinite"/>
                      </p:stCondLst>
                      <p:childTnLst>
                        <p:par>
                          <p:cTn id="6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dur="indefinite" fill="hold">
                      <p:stCondLst>
                        <p:cond delay="indefinite"/>
                      </p:stCondLst>
                      <p:childTnLst>
                        <p:par>
                          <p:cTn id="6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dur="indefinite" fill="hold">
                      <p:stCondLst>
                        <p:cond delay="indefinite"/>
                      </p:stCondLst>
                      <p:childTnLst>
                        <p:par>
                          <p:cTn id="7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dur="indefinite" fill="hold">
                      <p:stCondLst>
                        <p:cond delay="indefinite"/>
                      </p:stCondLst>
                      <p:childTnLst>
                        <p:par>
                          <p:cTn id="7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dur="indefinite" fill="hold">
                      <p:stCondLst>
                        <p:cond delay="indefinite"/>
                      </p:stCondLst>
                      <p:childTnLst>
                        <p:par>
                          <p:cTn id="7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dur="indefinite" fill="hold">
                      <p:stCondLst>
                        <p:cond delay="indefinite"/>
                      </p:stCondLst>
                      <p:childTnLst>
                        <p:par>
                          <p:cTn id="7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dur="indefinite" fill="hold">
                      <p:stCondLst>
                        <p:cond delay="indefinite"/>
                      </p:stCondLst>
                      <p:childTnLst>
                        <p:par>
                          <p:cTn id="7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dur="indefinite" fill="hold">
                      <p:stCondLst>
                        <p:cond delay="indefinite"/>
                      </p:stCondLst>
                      <p:childTnLst>
                        <p:par>
                          <p:cTn id="7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3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dur="indefinite" fill="hold">
                      <p:stCondLst>
                        <p:cond delay="indefinite"/>
                      </p:stCondLst>
                      <p:childTnLst>
                        <p:par>
                          <p:cTn id="7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dur="indefinite" fill="hold">
                      <p:stCondLst>
                        <p:cond delay="indefinite"/>
                      </p:stCondLst>
                      <p:childTnLst>
                        <p:par>
                          <p:cTn id="7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dur="indefinite" fill="hold">
                      <p:stCondLst>
                        <p:cond delay="indefinite"/>
                      </p:stCondLst>
                      <p:childTnLst>
                        <p:par>
                          <p:cTn id="7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dur="indefinite" fill="hold">
                      <p:stCondLst>
                        <p:cond delay="indefinite"/>
                      </p:stCondLst>
                      <p:childTnLst>
                        <p:par>
                          <p:cTn id="7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dur="indefinite" fill="hold">
                      <p:stCondLst>
                        <p:cond delay="indefinite"/>
                      </p:stCondLst>
                      <p:childTnLst>
                        <p:par>
                          <p:cTn id="8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dur="indefinite" fill="hold">
                      <p:stCondLst>
                        <p:cond delay="indefinite"/>
                      </p:stCondLst>
                      <p:childTnLst>
                        <p:par>
                          <p:cTn id="8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dur="indefinite" fill="hold">
                      <p:stCondLst>
                        <p:cond delay="indefinite"/>
                      </p:stCondLst>
                      <p:childTnLst>
                        <p:par>
                          <p:cTn id="8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cc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075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Tahoma"/>
              </a:rPr>
              <a:t>LA DO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197000"/>
            <a:ext cx="223236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981000"/>
            <a:ext cx="1800000" cy="8654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ahoma"/>
              </a:rPr>
              <a:t>Gen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32720" y="981000"/>
            <a:ext cx="1800000" cy="8654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ahoma"/>
              </a:rPr>
              <a:t>F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4000" y="1557360"/>
            <a:ext cx="1800000" cy="8650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ahoma"/>
              </a:rPr>
              <a:t>Sco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2924280"/>
            <a:ext cx="5832360" cy="36003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Il “Genere” della do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Retori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Cosa dire di più..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Suggestive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Si capisce che non intendeva dire così, non trovi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Non volevi fare questo, non è vero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Esplo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48040" y="692280"/>
            <a:ext cx="2095200" cy="433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765000"/>
            <a:ext cx="1440" cy="792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692280"/>
            <a:ext cx="2305080" cy="360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dur="indefinite" fill="hold">
                      <p:stCondLst>
                        <p:cond delay="indefinite"/>
                      </p:stCondLst>
                      <p:childTnLst>
                        <p:par>
                          <p:cTn id="8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dur="indefinite" fill="hold">
                      <p:stCondLst>
                        <p:cond delay="indefinite"/>
                      </p:stCondLst>
                      <p:childTnLst>
                        <p:par>
                          <p:cTn id="8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dur="indefinite" fill="hold">
                      <p:stCondLst>
                        <p:cond delay="indefinite"/>
                      </p:stCondLst>
                      <p:childTnLst>
                        <p:par>
                          <p:cTn id="8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1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dur="indefinite" fill="hold">
                      <p:stCondLst>
                        <p:cond delay="indefinite"/>
                      </p:stCondLst>
                      <p:childTnLst>
                        <p:par>
                          <p:cTn id="8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3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dur="indefinite" fill="hold">
                      <p:stCondLst>
                        <p:cond delay="indefinite"/>
                      </p:stCondLst>
                      <p:childTnLst>
                        <p:par>
                          <p:cTn id="8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dur="indefinite" fill="hold">
                      <p:stCondLst>
                        <p:cond delay="indefinite"/>
                      </p:stCondLst>
                      <p:childTnLst>
                        <p:par>
                          <p:cTn id="8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dur="indefinite" fill="hold">
                      <p:stCondLst>
                        <p:cond delay="indefinite"/>
                      </p:stCondLst>
                      <p:childTnLst>
                        <p:par>
                          <p:cTn id="8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dur="indefinite" fill="hold">
                      <p:stCondLst>
                        <p:cond delay="indefinite"/>
                      </p:stCondLst>
                      <p:childTnLst>
                        <p:par>
                          <p:cTn id="9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dur="indefinite" fill="hold">
                      <p:stCondLst>
                        <p:cond delay="indefinite"/>
                      </p:stCondLst>
                      <p:childTnLst>
                        <p:par>
                          <p:cTn id="9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cc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86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Tahoma"/>
              </a:rPr>
              <a:t>Doman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cc3300"/>
                </a:solidFill>
                <a:latin typeface="Tahoma"/>
              </a:rPr>
              <a:t>esplo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981000"/>
            <a:ext cx="3816360" cy="54723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FORMA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della do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Chiusa</a:t>
            </a: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A risposta multipl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Ap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cosa”, “come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chi”, “quando”, “do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Indir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Proiet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Se tu fossi…”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Se tu potessi essere...... fare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981000"/>
            <a:ext cx="4105080" cy="53276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OBIET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della do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Aggiunta di inform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Mi può dire qualcosa di più  al riguardo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Chiar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Mi puo’ spiegare cosa intende dire con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Focalizz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sul conten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Cosa è successo dopo questo fatto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Focalizzazione sulla 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Lei cosa pensa al riguardo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cosa sente nel dire che…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dur="indefinite" fill="hold">
                      <p:stCondLst>
                        <p:cond delay="indefinite"/>
                      </p:stCondLst>
                      <p:childTnLst>
                        <p:par>
                          <p:cTn id="9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dur="indefinite" fill="hold">
                      <p:stCondLst>
                        <p:cond delay="indefinite"/>
                      </p:stCondLst>
                      <p:childTnLst>
                        <p:par>
                          <p:cTn id="9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dur="indefinite" fill="hold">
                      <p:stCondLst>
                        <p:cond delay="indefinite"/>
                      </p:stCondLst>
                      <p:childTnLst>
                        <p:par>
                          <p:cTn id="9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dur="indefinite" fill="hold">
                      <p:stCondLst>
                        <p:cond delay="indefinite"/>
                      </p:stCondLst>
                      <p:childTnLst>
                        <p:par>
                          <p:cTn id="9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dur="indefinite" fill="hold">
                      <p:stCondLst>
                        <p:cond delay="indefinite"/>
                      </p:stCondLst>
                      <p:childTnLst>
                        <p:par>
                          <p:cTn id="9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dur="indefinite" fill="hold">
                      <p:stCondLst>
                        <p:cond delay="indefinite"/>
                      </p:stCondLst>
                      <p:childTnLst>
                        <p:par>
                          <p:cTn id="9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dur="indefinite" fill="hold">
                      <p:stCondLst>
                        <p:cond delay="indefinite"/>
                      </p:stCondLst>
                      <p:childTnLst>
                        <p:par>
                          <p:cTn id="9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dur="indefinite" fill="hold">
                      <p:stCondLst>
                        <p:cond delay="indefinite"/>
                      </p:stCondLst>
                      <p:childTnLst>
                        <p:par>
                          <p:cTn id="9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 fill="hold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 fill="hold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dur="indefinite" fill="hold">
                      <p:stCondLst>
                        <p:cond delay="indefinite"/>
                      </p:stCondLst>
                      <p:childTnLst>
                        <p:par>
                          <p:cTn id="9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dur="indefinite" fill="hold">
                      <p:stCondLst>
                        <p:cond delay="indefinite"/>
                      </p:stCondLst>
                      <p:childTnLst>
                        <p:par>
                          <p:cTn id="10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dur="indefinite" fill="hold">
                      <p:stCondLst>
                        <p:cond delay="indefinite"/>
                      </p:stCondLst>
                      <p:childTnLst>
                        <p:par>
                          <p:cTn id="10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dur="indefinite" fill="hold">
                      <p:stCondLst>
                        <p:cond delay="indefinite"/>
                      </p:stCondLst>
                      <p:childTnLst>
                        <p:par>
                          <p:cTn id="10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dur="indefinite" fill="hold">
                      <p:stCondLst>
                        <p:cond delay="indefinite"/>
                      </p:stCondLst>
                      <p:childTnLst>
                        <p:par>
                          <p:cTn id="10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dur="indefinite" fill="hold">
                      <p:stCondLst>
                        <p:cond delay="indefinite"/>
                      </p:stCondLst>
                      <p:childTnLst>
                        <p:par>
                          <p:cTn id="10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 fill="hold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 fill="hold"/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cc3300"/>
                </a:solidFill>
                <a:latin typeface="Tahoma"/>
              </a:rPr>
              <a:t>…… </a:t>
            </a:r>
            <a:r>
              <a:rPr b="1" i="1" lang="en-GB" sz="2400" spc="-1" strike="noStrike">
                <a:solidFill>
                  <a:srgbClr val="cc3300"/>
                </a:solidFill>
                <a:latin typeface="Tahoma"/>
              </a:rPr>
              <a:t>attenzione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399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1" i="1" lang="en-GB" sz="2000" spc="-1" strike="noStrike">
                <a:solidFill>
                  <a:srgbClr val="333399"/>
                </a:solidFill>
                <a:latin typeface="Tahoma"/>
              </a:rPr>
              <a:t>evit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Domande “perché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Domande succ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Domande sugges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00360" y="1125360"/>
            <a:ext cx="439092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6600"/>
                </a:solidFill>
                <a:latin typeface="Tahoma"/>
              </a:rPr>
              <a:t>…</a:t>
            </a:r>
            <a:r>
              <a:rPr b="1" i="1" lang="en-GB" sz="2000" spc="-1" strike="noStrike">
                <a:solidFill>
                  <a:srgbClr val="006600"/>
                </a:solidFill>
                <a:latin typeface="Tahoma"/>
              </a:rPr>
              <a:t>.formulare domande</a:t>
            </a:r>
            <a:r>
              <a:rPr b="1" lang="en-GB" sz="2000" spc="-1" strike="noStrike">
                <a:solidFill>
                  <a:srgbClr val="0066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Tahoma"/>
              </a:rPr>
              <a:t>Chiare e sinte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Tahoma"/>
              </a:rPr>
              <a:t>Accessibili: </a:t>
            </a:r>
            <a:r>
              <a:rPr b="0" lang="en-GB" sz="2000" spc="-1" strike="noStrike">
                <a:solidFill>
                  <a:srgbClr val="006600"/>
                </a:solidFill>
                <a:latin typeface="Tahoma"/>
              </a:rPr>
              <a:t>centrate sul linguaggio  e sull’esperienza dell’interlocu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Tahoma"/>
              </a:rPr>
              <a:t>Rilevanti: </a:t>
            </a:r>
            <a:r>
              <a:rPr b="0" lang="en-GB" sz="2000" spc="-1" strike="noStrike">
                <a:solidFill>
                  <a:srgbClr val="006600"/>
                </a:solidFill>
                <a:latin typeface="Tahoma"/>
              </a:rPr>
              <a:t>significative ai fine dell’esplorazione da parte dell’interlocu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dur="indefinite" fill="hold">
                      <p:stCondLst>
                        <p:cond delay="indefinite"/>
                      </p:stCondLst>
                      <p:childTnLst>
                        <p:par>
                          <p:cTn id="10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dur="indefinite" fill="hold">
                      <p:stCondLst>
                        <p:cond delay="indefinite"/>
                      </p:stCondLst>
                      <p:childTnLst>
                        <p:par>
                          <p:cTn id="10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dur="indefinite" fill="hold">
                      <p:stCondLst>
                        <p:cond delay="indefinite"/>
                      </p:stCondLst>
                      <p:childTnLst>
                        <p:par>
                          <p:cTn id="10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dur="indefinite" fill="hold">
                      <p:stCondLst>
                        <p:cond delay="indefinite"/>
                      </p:stCondLst>
                      <p:childTnLst>
                        <p:par>
                          <p:cTn id="10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dur="indefinite" fill="hold">
                      <p:stCondLst>
                        <p:cond delay="indefinite"/>
                      </p:stCondLst>
                      <p:childTnLst>
                        <p:par>
                          <p:cTn id="10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dur="indefinite" fill="hold">
                      <p:stCondLst>
                        <p:cond delay="indefinite"/>
                      </p:stCondLst>
                      <p:childTnLst>
                        <p:par>
                          <p:cTn id="10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dur="indefinite" fill="hold">
                      <p:stCondLst>
                        <p:cond delay="indefinite"/>
                      </p:stCondLst>
                      <p:childTnLst>
                        <p:par>
                          <p:cTn id="10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dur="indefinite" fill="hold">
                      <p:stCondLst>
                        <p:cond delay="indefinite"/>
                      </p:stCondLst>
                      <p:childTnLst>
                        <p:par>
                          <p:cTn id="1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dur="indefinite" fill="hold">
                      <p:stCondLst>
                        <p:cond delay="indefinite"/>
                      </p:stCondLst>
                      <p:childTnLst>
                        <p:par>
                          <p:cTn id="1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ASCOLTO ATTIVO    capacità ed intenzionalità di      sperimenta</dc:title>
</cp:coreProperties>
</file>